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6808-928A-4B41-8B55-E8D05C08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DAD7-C9D0-4919-B508-ADF70B83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2E3C-8B8F-44EE-94B1-BB83DF33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F16B-282B-400F-AC9F-2FB6ABCD7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FA9E-C094-4556-9EEF-F6B0B1DB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FCCD-5DC6-453B-9B86-FFC2828A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5B89-685C-423C-BCCC-E4E0D6D8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1A86-EE2C-4D2A-8C23-D76919BE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FF8E-D43B-4EEA-B62B-8E55C270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181B-E927-4D87-9BF6-DC58EC15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333C-407A-4794-BC37-1BBDF485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0D2F-AB66-4FC8-98A9-6E7CE3F2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7D20-2C32-4899-91B0-F15AE7D4D5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on: some possible scenar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09320" y="1828440"/>
            <a:ext cx="48769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n: 802.6 kg/h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. Dev. : 1027.7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f: 1.28  (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0.0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Size -30% chang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is the required sample size to detect a 30% change in maize yield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te this is the same question as if you wanted to see a 30% difference between related questions in the same datas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aselin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802.6 kg/h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ollow-up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1043.4 kg/hect (baseline +30%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ample required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313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households x 2 surve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st per household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$100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$150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$200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tal cost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$62k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$94k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$124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Size -30% chang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ing a clustered sample with 10 households/cluster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.0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e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02.6 kg/h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llow-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1043.4 kg/hect (baseline +3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ple required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98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ouseholds x 2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per household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5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cos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80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19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59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Size -20% chang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required sample size to detect a 20% change in maize yiel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e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02.6 kg/h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llow-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963.1 kg/hect (baseline +2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ple required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70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ouseholds x 2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per household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5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cos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41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11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82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Size -20% chang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ing a clustered sample with 10 households/cluster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.0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e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02.6 kg/h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llow-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963.1 kg/hect (baseline +2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ple required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9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ouseholds x 2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per household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5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cos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79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68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357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Size -10% chang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required sample size to detect a 10% change in maize yiel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e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02.6 kg/h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llow-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82.6 kg/hect (baseline +1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ple required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,828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ouseholds x 2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per household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5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cos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566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848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.13m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Size -10% chang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ing a clustered sample with 10 households/cluster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.0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e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02.6 kg/h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llow-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82.6 kg/hect (baseline +1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ple required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,59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useholds x 2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per household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$15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$2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cos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718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$1.08m $1.44m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ost of a rigorous evaluation depends on many parame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ssuming confidence level=90% and same correlation between baseline and follow-up measurements, survey cost can range from $62k to $1.44m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key hypothesis is just on the value of the % change: the lower the projected change the higher the sample required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t, better be conservative and prepared to pick even the 10% change, as if we plan for the 30% and then the 10% occurs, our sample will be too small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02:59:44Z</dcterms:created>
  <dc:creator>CAZZARRI</dc:creator>
  <dc:description/>
  <dc:language>en-US</dc:language>
  <cp:lastModifiedBy>LeBorgne, Ewen (ILRI)</cp:lastModifiedBy>
  <dcterms:modified xsi:type="dcterms:W3CDTF">2012-10-02T10:14:20Z</dcterms:modified>
  <cp:revision>12</cp:revision>
  <dc:subject/>
  <dc:title>Evaluation: some possible scenarios</dc:title>
</cp:coreProperties>
</file>